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540-A911-4160-96B1-388A7C74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146-610B-4E5F-9244-C1F9A696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508-2068-440F-A8E9-5D092905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E54-04C6-46DD-8FC3-344553A3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D534-AD20-4ADE-9BA0-93C756DB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6815-F65A-47B2-9A3E-E02CE6E1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B890-C767-42BC-AB9B-4DD443BE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0BA9-ED6A-41B0-A9D1-8189D56F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9063-AC91-4BE1-A55F-FE2F040C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8BC3-60B3-482D-B70A-2D57706D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F411-417D-4B2F-9A99-DA546C7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649-BA43-4BA7-8910-89202FDC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98BA-78A9-4E22-B298-95FBDF9B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3A4A-336D-47B2-B370-C6C42304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E4C8-3662-4FED-B9A1-D7C794A1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D3F6-BE30-4E85-9BB5-CC78FC30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DE56-A84F-42C3-9F09-D5324730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B6899-0087-4B83-A791-17CC5223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B0C08-8124-48E1-88C2-95315308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B0DA7-5BA8-491A-999D-B6B1B3F2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59980-BA78-4F64-9C1E-0448CD1E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2ECC4-7809-4FD6-B055-730F709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576-FFDB-4D32-8E78-FAEF11D5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DB5BB-2BC4-4899-B459-B2463B40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C0791-5719-4C13-94D4-2618B22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3A7AA-2EFD-4248-80EB-68C786E0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48950-B524-4DD9-ADAA-27ED1E8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050AB-7AE5-46CE-9984-BA3ADE5B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4FF62-D452-402F-945B-3E31B2B2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BAAA9-3EF9-4A31-A87D-D5E99A7A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D56D0-EE90-4D8D-A47F-57E5B008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E1D181-4F91-494F-9CF4-0E2EA761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E688A-290E-47BB-975D-993EB454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951-217F-436E-92DA-5C2B86D8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220EE-637E-4CE8-8A4C-0EC90F7D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B9B32-EFA7-4D16-9CA3-AE4176C2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44208-B7B7-4E61-B49B-A0B0AFE5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01B92-F733-4703-A8A1-577E016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0D3C1-B002-4DA0-A419-955FA4F6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7C7FA-C6F2-4AF2-BC4C-26393425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9474F-911F-407E-8910-9BCA9CE5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BBFCC-26C7-4C6E-B350-C7CF79A8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A5467-8FFE-47F9-8EC7-6155EECD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8B097-971E-4131-9E3C-D03C344F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6CF-3ADE-4D98-B42E-E95DC054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F51A7-0353-4815-B8DD-982ED2F5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7E185-4858-4876-9BF1-6C4FFA01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716EE3-49B1-4CE1-A75F-82442D12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D9FEC-97ED-4A1D-81EF-2DD55C14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C5AE0-BD98-4294-8CE3-5EDDA859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0848A-D755-49A5-8102-56211F44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A901D-2F6D-4AE2-ABAB-11BE778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295E3-B8C4-4F9C-AB0F-3FC3D466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87E48-74A8-4E08-9EE5-8BF47AF9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1AC37-7D75-4F58-89C0-A807C7D8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9E5-D7E1-4368-9863-07B86F1D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E3896-8FC8-4D13-BF35-81DABF37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21E5A-F116-40E9-B91A-1D6C2273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EB12-7D02-4B01-8664-BDF1D076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7F887-E882-4F4D-BF4B-1ABEF744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2D4F9-E098-4F88-A91C-733BB7D3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2475F-4706-4E6C-8D97-A7813CA6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A9948-8479-4164-AA08-D9637303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5E051-C000-4E6F-8C92-B7C63D1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A91E7-D32F-44E1-A75C-439B3BEC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FBB97-2800-4B89-9FB1-31CB6498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0DC-AFAB-42A0-8519-BE2EDA66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C44D7-519C-42DF-B3F5-4D3F9940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4FFA7-5752-46FB-AFFA-F3474711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77B3D-AAB3-4A05-9F3E-D237F891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6F3B7A-0E0C-4E98-90A3-01AC93C1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6E27E-8E4F-452D-A0FD-7782BCB1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697808-D16A-4469-A4D7-901FC5BC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8EA78-F524-4552-9682-8ACD990E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AC47A-6358-4B0A-90DC-E1520366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B6F4C-4E3F-4AF7-AA06-C1FA3A28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578C4-8D5B-4E82-881B-800ED565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321-EE44-4F3D-A0EB-5535B9E6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15ACB-5C6D-435F-AF2D-FD9429B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BE23B-3C3F-48DE-AB4F-5AD5986F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7E0211-2751-4C32-94F5-28D492C2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66EF1-FF92-471A-A69F-06BD59A9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D5625-864D-4674-BC87-F2541174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32EE6-CA0C-4FD1-865A-6A800AC3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763CA-EB13-4544-982D-885D9921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65063-BB08-4425-A09F-D8167DA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BAB8F-646B-4378-9A5F-5AAA3539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FB3C7-15D7-4EBD-8B0D-6BDF47D8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CDA-1A78-48C9-8351-048BBC72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E8CF4-1FD8-4028-9CDA-B8BEF2E4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608AF-0F2F-4937-9C11-2707921C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390B4-BC81-47B1-A927-35CC266A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9CBE1-527F-430C-BC25-436B07DB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DD203-2E9B-4819-8A2E-42AAC4B1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859BE-FBEF-489B-995A-4318126E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11D80-DE22-47F7-B0FC-8204760A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LIS 4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BE60-7BB8-426E-B5CE-65B5B84DBE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S 4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0D59-792E-4E10-B094-05E81E94A7F3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LIS 4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1715-D1F2-4E32-A406-0826B5A0F48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LIS 4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743A-3256-4476-B655-C47BE27F1F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LIS 4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B288-A4FC-4DF5-A711-2C0F002DD1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LIS 4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94A5-862B-4BAD-9CAA-E850D12D4054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LIS 4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CB76-80D1-4DAE-811D-62D72A2D92F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LIS 4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1C16-EE07-4B42-9255-01735A3AB5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ddc9d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taffing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Organizational Stru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0906-116D-4908-A0AA-98268E8270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ganization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re groups of individuals joined together to accomplish some objectiv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ave their own characteristic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ave rules and norms which have evolved over ti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eract with other organiz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hange internally to keep up with external pressu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To Organize Stru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295E-2EC3-492E-83EB-8EC198A93F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roup tasks into individual job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roup jobs into functions and divi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cate authority in the organization among jobs, functions and divi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ordinate or integrate jobs, functions and divi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5038"/>
                </a:solidFill>
                <a:latin typeface="Tw Cen MT"/>
              </a:rPr>
              <a:t>Grouping Tasks into Jobs: Job Desig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E1B4-5962-47CA-8F9A-CDDCEFC76D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Job design is the process by which managers decide how to divide into specific jobs the tasks that have to be perform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J.R. Hackman and G.R. Oldman developed a job characteristics model that explains how to design jobs that are interesting and motivat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ob Characteristics Mo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03C9-4914-4D7D-8E08-B5D4B4C8DA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High motivation on the job is related to three psychological states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bb8"/>
                </a:solidFill>
                <a:latin typeface="Tw Cen MT"/>
              </a:rPr>
              <a:t>Meaningfulness of the work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: work has meaning to you, is something you relate to, not just a set of tasks/movement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bb8"/>
                </a:solidFill>
                <a:latin typeface="Tw Cen MT"/>
              </a:rPr>
              <a:t>Responsibility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: you have the opportunity for success or failure, because you have sufficient freedom of action.  Includes ability to make changes/ incorporate learning on the job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bb8"/>
                </a:solidFill>
                <a:latin typeface="Tw Cen MT"/>
              </a:rPr>
              <a:t>Knowledge of Outcomes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: 1) you get feedback so you know how successful you’ve been &amp; can learn from your mistakes, 2) you can connect emotionally to the customer of your product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ob Characteristics Mo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2E2C-F055-4AD5-9FDF-C5A92EA5D2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of the three states derives from job characteristic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aningfulness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58bb8"/>
                </a:solidFill>
                <a:latin typeface="Tw Cen MT"/>
              </a:rPr>
              <a:t>Skill variety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: uses an appropriate variety of skills (too many is overwhelming, too few is boring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58bb8"/>
                </a:solidFill>
                <a:latin typeface="Tw Cen MT"/>
              </a:rPr>
              <a:t>Task identity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xtent to which a job requires a worker to perform all the tasks required to complete the jo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58bb8"/>
                </a:solidFill>
                <a:latin typeface="Tw Cen MT"/>
              </a:rPr>
              <a:t>Task significance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: the degree to which a worker feels the job is meaningfu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ob Characteristics Mo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5519-5B3F-48EF-A82C-55D906B87F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ponsibil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mes from autonomy- the degree to which the job gives the employee the freedom and discretion needed to schedule different tasks and decide how to carry them ou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edback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extent to which actually doing the job provides a worker with clear and direct information about how well the job has been perform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ob Characteristics Mo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AC72-40E5-405F-8FE0-31E10FD33A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832040" y="2109960"/>
            <a:ext cx="57150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ob Characteristics Mo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6BBC-6DC4-450A-8AE8-1CD6AE9210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nce we know what contributes to high motivation in a job, we can design jobs around key component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arying work to enable skill varie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ssigning work to groups to increase the wholeness of the product produced and give a group to enhance significanc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legate tasks to their lowest possible level to create autonomy and hence responsibilit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nect people to the outcomes of their work and the customers that receive them so as to provide feedback for lea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261800" indent="-21024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aken from http://www.arrod.co.uk/archive/concept_job_characteristics.php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ob Characteristics Mo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D24B-E8F6-41CA-AF22-259AD47638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2774880" y="2143080"/>
            <a:ext cx="38289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Job grouping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Organizational Stru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EE3F-3333-486E-9D58-DC64D8E1A90C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aff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55EE-B418-42A1-8422-50104D453B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vervie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b Characterist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ganizational Struc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b descrip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R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rformance Evalu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gal Consider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5038"/>
                </a:solidFill>
                <a:latin typeface="Tw Cen MT"/>
              </a:rPr>
              <a:t>Grouping Jobs into Functions and Divis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D56E-FA10-46E0-AF26-2517AA6C7C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re are at least six structures used in librar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unctional struc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bject struc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visional struc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m struc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trix struct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ybrid structur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Jobs in Functions and Divi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D5FE-DFD4-49A3-A1D0-55A604A802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unctional structu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function is a group of people, working together, who posses similar skills or uses the same knowledge, tools or techniqu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st common structure found in librar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ubject structu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ed by libraries to organize based upon the classification of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umanities, social sciences,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n, functional by including functional responsibilities within the subject structure, such as acquisitions and refere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Jobs in Functions and Divi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92A0-1445-4B23-8D81-13D6A7BDDC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visional struc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n organizational structure composed of separate units within which are the functions that work together to produce a specific output for a specific custom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 often see geographic divisional structures -- campus branch libra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Jobs in Functions and Divi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6082-8092-4F5E-984C-547E8EF6AF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orm of resources structu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metimes referred to as a divisional/product structure (the form is the output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e of materials format to organize, such as map, microform, audio-visual, serials, electronic services, and government docume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ften, the form of resources structure handles all functions related to the format: acquisitions, cataloging, shelving, etc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ample: Government Documents Departmen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Jobs in Functions and Divi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67BD-2FD4-40E2-B7C0-0F93479481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trix structu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orkers are grouped by first by function, then into product teams. Members of different functions work together to develop a specific produc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ach person reports to two bosses: the function boss and the product bo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 keep matrix structure flexible, product teams are empowered and members are responsible for making important decision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t seen often in libraries because of its complexity and problems with unity of command (two boss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Jobs in Functions and Divi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22E3-2744-484E-BA2B-8DA5B781AA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ybrid struc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ually based in a large organization that has many divisions and simultaneously uses many different structures (for example, function and product, etc.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ssentially used to break large organizations into smaller, more manageable uni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Integrating Staff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2801-0FC6-449A-9871-149B37BEE2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chanisms are used to increase communications and coordination among functions and divis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rect conta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aison ro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ful for transmitting information across an organiz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Integrating Staff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20CC-2F6B-4CBD-B838-7746D0056D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committee from various functions or divisions who meet to solve a specific probl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mporary; once the problem is solved, the task force dissolv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mmitte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mbers are usually appoin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ve a specific charge and are results-orien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y be temporary or permanent stand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ample: Public Relations Committee; Staff Development Committe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Integrating Staff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5E56-1497-4EA4-A4EF-123343663C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ross-functional te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o address recurring problems, use permanent cross-functional tea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Quality circ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roups of employees that meet regularly and voluntarily to recommend solutions to quality and productivity probl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lf-managing te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ternal groups that manage themselv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embers are those who do the wo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ocess-orien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nagers are responsible for developing the talents and skills of team members, motivating them, and fostering effective working relationship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5038"/>
                </a:solidFill>
                <a:latin typeface="Tw Cen MT"/>
              </a:rPr>
              <a:t>Organizational Structures in Libraries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DF28-7D0A-43C4-AF5E-537E0347ED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urrent thinking i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lexible and adaptable to chang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ew levels of formal hierarch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se boundaries among functions and uni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ork unit is team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cus on end user servi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Types of Library Staff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5AF3-7188-4520-9122-E40C28422A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fessional librari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ster’s degree in library or information scien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nd to be specialis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upport staff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de range of skills and responsibili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ndle the routine work of most library departme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arying education and experience leve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art-time employe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ften are student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o mostly repetitive task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5038"/>
                </a:solidFill>
                <a:latin typeface="Tw Cen MT"/>
              </a:rPr>
              <a:t>Organizational Structures in Libraries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CE1C-FFC2-4648-9552-5E0B94C95A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job descriptions are becoming broad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mbining units internal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me flattening of the hierarch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owerment of team-based staff to make decisions for which they have the appropriate information, knowledge, skills and abil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se of interdepartmental committees to cross functional depart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5038"/>
                </a:solidFill>
                <a:latin typeface="Tw Cen MT"/>
              </a:rPr>
              <a:t>Organizational Structures in Libraries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5C42-E8F2-4B13-8321-473543610C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(continued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aisons to the faculty (selection; research; instructional, etc.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w user services (virtual reference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limination of user services (such as reference librarians doing database searching on behalf of the use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ew partnerships with other organizational units (usually IT- which others?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Job Descrip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6A16-DD86-4D99-BE5F-19D803C99A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b analysis is the HRM process of identifying the tasks, duties and responsibilities that make up a job -- the job descrip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b descriptions specifies the duties associated with the jo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Job Descrip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1592-601D-4DE5-9E37-E4E21E46F1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ually contain the following element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Job identific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job title and depart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Job summa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scription of the major responsibilities and why the job exis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Job activities and 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scription of tasks to be perform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ear delineation of the duties and responsibilities of the jo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Job Descrip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98CD-39B2-48B9-8DDF-4171298623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elationship of job to the organiz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ines of author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umber of employees to be supervis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ternal and external relationships required of the jo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Job requirem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dentifies the minimal qualifications requi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ducation; experience; special skills; knowledge or abilities necessa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uld also identify “preferred” qualifications including additional educations and specific experi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5038"/>
                </a:solidFill>
                <a:latin typeface="Tw Cen MT"/>
              </a:rPr>
              <a:t>Changing Nature of Library Work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2373-0476-4699-B30E-C668495A7A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ift from traditional, functional specialist positions to “multi-skilling” posi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creasing requirements for behavior skil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bility to communicate internally and external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ork effectively with oth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lexibilit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reativit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nnovativ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Divers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3040-4014-4FEA-8F8B-6A485EFD8A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road term encompassing not only race, ethnicity, and gender but also characteristics such as age and physical abilit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iversity brings a variety of points of views and approaches to problems and opportunity that strengthens organiza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nagers must promote and commit to diversity as a principle and value that is part of the organizational cultu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Training and Staff Develop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819D-297E-4D11-8DAC-7359D6F02E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very library needs a planned, staff training and development progr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in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marily focuses on teaching staff to perform their current jobs and helping them to acquire the knowledge and skills they need to be effective perform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so needed to keep employees curr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Training and Staff Develop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41B6-38E4-4745-8730-DF2E6018C5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ff Develop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ff development focuses on building staff knowledge and skills so that they will be prepared to take on new responsibil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cludes additional activities such as varied work experiences and formal educ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rofessional conference programs and workshop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t is critical that managers promote transfer of the knowledge and skills to the actual work situ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5038"/>
                </a:solidFill>
                <a:latin typeface="Tw Cen MT"/>
              </a:rPr>
              <a:t>Staff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0FD0-7A2B-4CA5-985A-8179D55046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sonnel costs are half of the financial resources allocated to the librar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times of economic downturns, what gets cut?  How do we prioritiz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 academic libraries are being asked to cut 5-10% of budget (this could mean $3 million dollar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In Academic Librar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Organizational Struct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Slide Number Placeholder 2"/>
          <p:cNvSpPr/>
          <p:nvPr/>
        </p:nvSpPr>
        <p:spPr>
          <a:xfrm>
            <a:off x="0" y="1752480"/>
            <a:ext cx="129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7196-2A1D-46B3-A1A8-4DA646E7FAC9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5:41:52Z</dcterms:created>
  <dc:creator>Robert E. Dugan</dc:creator>
  <dc:description/>
  <dc:language>en-US</dc:language>
  <cp:lastModifiedBy>hhdk</cp:lastModifiedBy>
  <dcterms:modified xsi:type="dcterms:W3CDTF">2018-02-10T06:35:50Z</dcterms:modified>
  <cp:revision>50</cp:revision>
  <dc:subject/>
  <dc:title>Managing Academic Libraries</dc:title>
</cp:coreProperties>
</file>